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901-5642-472E-978E-FCEF1267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19F-D872-418B-BD47-4A5AA98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750-25E0-407D-9E64-483308FF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635-9D48-45E3-BEA8-64EE49FA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7C35-2774-42FD-9AB5-40852899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AA0-2100-4FF2-8174-76FAD86D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E0B1-43CD-4A11-BD8A-DE4653F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6E1A-D714-4C23-B5ED-0823C3A6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3AAD-1D77-4185-A374-8FCEFBB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7D59-251A-443C-BB44-2B98D733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3194-7FA6-4B00-88B1-48D2520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85B-43B1-4ACB-B323-0E634C7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DD0C-F614-4475-B0B6-6B21663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9A31-69F7-4254-BD83-AB0F064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430F-585A-4E60-AEFA-3FAB78E1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0C67-7DF6-4823-ABC8-618C7774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7150-532D-41E8-95BF-B6EFE85F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9B4-C0B7-49A9-9278-86E29D3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AC8-0EA3-45D2-B81F-89A0672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927-B8BB-4B01-AC32-AA9FD05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D51-8E3F-4E95-A1E4-F3807E8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6CB-84BA-4A02-A55F-9E6E462E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2BE-5D63-4BCB-94FC-AA3732B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85B-7E00-4210-9644-787433F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4D48-EB98-4BB2-86C7-57778D204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4D4A-5079-4FF7-A70C-599AA0B39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ём как многоэтажное жилищ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работу: Максименко В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обен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лотность более высокая, чем плотность воздуха. Благодаря этому огромное число животных способно как бы парить в водной толщине, никогда не опускаться на 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ода менее прозрачна, чем воздух. На глубине 200 м царят сумерки, а на большие глубины никогда не проник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ода обладает высокой теплоёмкостью, чем воздух (поэтому купальщики так быстро мёрзну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Бент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лан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е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Лито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Бентос (от греч. бентос – глубина.)  –животные которые можно обнаружить на дне. Это различные губки, кишечнополостные (кораллы и актинии), плоские и кольчатые черви. Так же  креветки, раки и крабы, двухстворчатые и брюхоногие моллю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ланктон (от греч. планктос – блуждающие.) – животные у которых плотность тела не отличается от плотности воды и поэтому они способны, «висеть» в её толщине. Помогает им в этом многочисленные выросты на теле. Это радиолярии, медузы, маленькие рачки, греб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146240"/>
            <a:ext cx="4495680" cy="280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3981600"/>
            <a:ext cx="44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ктон (от греч. нектос – плывущий.)- это животные которые обитают в толщине воды и легко справляются с самыми сильными течениями и развивают большую скорость. Наиболее типичные нектонные животные – это рыбы, киты, дельфины, кальмары. Развивают скорость очень большую до 130 к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30236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Литораль ( от лат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u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овой.)- это животные которые обитают на границе водной и наземно-воздушной среде.  Это крабы, раки, илистый прыгу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7T15:1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